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4DF23-3156-4736-8E15-B3675418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2DF0-26EB-46B5-B138-EF3C2C61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1C3F-EA30-4E17-ADB6-7C366716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CEFC-699E-48BD-9002-21BD1035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A092-B320-46EA-9284-DD9DFED7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CD8A-B901-4378-87C4-DDE054AE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11CF-ECD5-462E-AEBA-B81C07CD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E60C-955A-42A9-92B2-0E638AC1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50F3-400F-48A2-93AE-1856066D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163-27B9-431A-A468-5CC9EB12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A86C-60F1-445B-8666-08FDD394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86A8-F1AD-4DE5-82D3-A998B7F9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AB62-6C5B-44C9-A3D1-24DE24E3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8362-0BE6-41B8-B6FE-6C67A911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C6EA-53B7-4717-842D-D98B52EB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2086-A5E1-4F6D-AA28-79386828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91AE-EEF5-48BA-9A1F-5245D9CA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F9A3-CD60-41B8-98AB-03B775F0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2CCC-4C12-4B1F-816A-EC8D160E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F468-C570-4703-9A27-D65C124A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2A53-E83A-4908-A00E-43CD1EE1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0247-258D-4CF2-AAFC-55995092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8D4B-3B3E-4E59-B828-B9EEA683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22590-E7A8-42B6-B223-54C8111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75D3-8B35-465A-A833-AC2FF5C1C0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10DE-EB24-4BEB-A223-7D05FF79C7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lengua...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sadelante.com/faq-componentes-de-un-ordenador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71640" y="1989000"/>
            <a:ext cx="6985080" cy="234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FTW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APLICACIÓN programa informático diseñado para facilitar al usuario la realización de un determinado tipo de trabaj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PROGRAMA conjunto de instrucciones escritas en un </a:t>
            </a:r>
            <a:r>
              <a:rPr b="0" lang="es-CO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lenguaje de programación </a:t>
            </a: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para su ejecución en un ordenador o computador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Garamond"/>
              </a:rPr>
              <a:t>UTILIDAD (informática), programa diseñado para realizar una función de mantenimiento del ordenador o computadora, de una aplicación o de un entorno de desarroll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e5e5ff"/>
                </a:solidFill>
                <a:latin typeface="Garamond"/>
              </a:rPr>
              <a:t>SISTEMA OPERATIVO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4920" y="2421000"/>
            <a:ext cx="806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Software básico de una computadora que provee una interfaz entre el resto de programas del ordenador, el hardware y el usuario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FUNCIONES BÁS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dministrar los recursos de la máquin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ordinar el hardwar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Organizar archivos y directorios en dispositivos de almacenamiento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CLASIFICACIÓN DE LOS S.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ltiusuari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Permite que dos o más  usuarios utilicen sus programas al mismo tiemp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ltiprocesador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soporta el abrir un mismo programa en más de una </a:t>
            </a:r>
            <a:r>
              <a:rPr b="0" lang="es-E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CPU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ltitarea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Permite que varios programas se ejecuten al mismo tiemp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Multitram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Permite que diversas partes de un solo programa funcionen al mismo tiempo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Tiempo Real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: Responde a las entradas inmediatament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ÓMO FUNCIONA UN S.O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8209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os sistemas operativos proporcionan una plataforma de software encima de la cual otros programas, llamados aplicaciones, puedan funcionar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68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68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6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e5ff"/>
                </a:solidFill>
                <a:latin typeface="Garamond"/>
              </a:rPr>
              <a:t>SISTEMAS OPERATIV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52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amilia Window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95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98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M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NT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2000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2000 serve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XP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Server 2003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C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Mobil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XP 64 bit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Windows Vista (Longhor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56000" y="1125360"/>
            <a:ext cx="417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amilia Macinto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ac OS 7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ac OS 8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ac OS 9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ac OS 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Familia UNI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I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MI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GNU/Linu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GNU / Hur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HP-U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Iri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Minix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ystem V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olar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nixWar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00"/>
                </a:solidFill>
                <a:latin typeface="Garamond"/>
              </a:rPr>
              <a:t>Lenguaje de programación</a:t>
            </a:r>
            <a:r>
              <a:rPr b="1" lang="es-CO" sz="3600" spc="-1" strike="noStrike">
                <a:solidFill>
                  <a:srgbClr val="e5e5ff"/>
                </a:solidFill>
                <a:latin typeface="Garamond"/>
              </a:rPr>
              <a:t>, en informática, cualquier lenguaje artificial que puede utilizarse para definir una secuencia de instrucciones para su procesamiento por un ordenador o computadora.</a:t>
            </a:r>
            <a:r>
              <a:rPr b="1" lang="es-CO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804000" y="5734080"/>
            <a:ext cx="504720" cy="574560"/>
          </a:xfrm>
          <a:custGeom>
            <a:avLst/>
            <a:gdLst>
              <a:gd name="textAreaLeft" fmla="*/ 72720 w 504720"/>
              <a:gd name="textAreaRight" fmla="*/ 432000 w 504720"/>
              <a:gd name="textAreaTop" fmla="*/ 72720 h 574560"/>
              <a:gd name="textAreaBottom" fmla="*/ 50184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18475" y="3125"/>
                </a:lnTo>
                <a:lnTo>
                  <a:pt x="3125" y="3125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18475" y="21462"/>
                </a:lnTo>
                <a:lnTo>
                  <a:pt x="18475" y="3125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3125" y="21462"/>
                </a:lnTo>
                <a:lnTo>
                  <a:pt x="18475" y="21462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3125" y="3125"/>
                </a:lnTo>
                <a:lnTo>
                  <a:pt x="3125" y="21462"/>
                </a:lnTo>
                <a:close/>
              </a:path>
              <a:path fill="darken" w="21600" h="24587">
                <a:moveTo>
                  <a:pt x="10800" y="6608"/>
                </a:moveTo>
                <a:lnTo>
                  <a:pt x="12904" y="8740"/>
                </a:lnTo>
                <a:lnTo>
                  <a:pt x="12904" y="7319"/>
                </a:lnTo>
                <a:lnTo>
                  <a:pt x="14353" y="7319"/>
                </a:lnTo>
                <a:lnTo>
                  <a:pt x="14353" y="10190"/>
                </a:lnTo>
                <a:lnTo>
                  <a:pt x="16485" y="12293"/>
                </a:lnTo>
                <a:lnTo>
                  <a:pt x="15135" y="12293"/>
                </a:lnTo>
                <a:lnTo>
                  <a:pt x="15135" y="18163"/>
                </a:lnTo>
                <a:lnTo>
                  <a:pt x="6465" y="18163"/>
                </a:lnTo>
                <a:lnTo>
                  <a:pt x="6465" y="12293"/>
                </a:lnTo>
                <a:lnTo>
                  <a:pt x="5115" y="12293"/>
                </a:lnTo>
                <a:close/>
              </a:path>
              <a:path fill="darkenLess" w="21600" h="24587">
                <a:moveTo>
                  <a:pt x="12904" y="8740"/>
                </a:moveTo>
                <a:lnTo>
                  <a:pt x="12904" y="7319"/>
                </a:lnTo>
                <a:lnTo>
                  <a:pt x="14353" y="7319"/>
                </a:lnTo>
                <a:lnTo>
                  <a:pt x="14353" y="10190"/>
                </a:lnTo>
                <a:close/>
              </a:path>
              <a:path fill="darkenLess" w="21600" h="24587">
                <a:moveTo>
                  <a:pt x="10047" y="15150"/>
                </a:moveTo>
                <a:lnTo>
                  <a:pt x="11553" y="15150"/>
                </a:lnTo>
                <a:lnTo>
                  <a:pt x="11553" y="18163"/>
                </a:lnTo>
                <a:lnTo>
                  <a:pt x="15135" y="18163"/>
                </a:lnTo>
                <a:lnTo>
                  <a:pt x="15135" y="12293"/>
                </a:lnTo>
                <a:lnTo>
                  <a:pt x="6465" y="12293"/>
                </a:lnTo>
                <a:lnTo>
                  <a:pt x="6465" y="18163"/>
                </a:lnTo>
                <a:lnTo>
                  <a:pt x="10047" y="1816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21:27:22Z</dcterms:created>
  <dc:creator>Ba-k.com</dc:creator>
  <dc:description/>
  <dc:language>en-US</dc:language>
  <cp:lastModifiedBy>Ba-k.com</cp:lastModifiedBy>
  <dcterms:modified xsi:type="dcterms:W3CDTF">2010-06-18T00:07:56Z</dcterms:modified>
  <cp:revision>9</cp:revision>
  <dc:subject/>
  <dc:title>Diapositiva 1</dc:title>
</cp:coreProperties>
</file>